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415064"/>
        <c:axId val="54062455"/>
      </c:barChart>
      <c:catAx>
        <c:axId val="604150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62455"/>
        <c:crosses val="autoZero"/>
        <c:auto val="1"/>
        <c:lblAlgn val="ctr"/>
        <c:lblOffset val="100"/>
        <c:noMultiLvlLbl val="0"/>
      </c:catAx>
      <c:valAx>
        <c:axId val="540624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150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78EF-26A6-4251-863B-D5160288E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ECB1-52E0-45D5-BE07-893E853E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AD67-61A3-4B6D-98D2-F3D7B9285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3B98-85D6-4152-8451-95A91142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A899-8BC4-4FE2-8362-FF52DEED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763D-498B-456C-8A70-349F6B4D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2570-E7A1-4EA0-86A6-2A500449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1EBC-0E75-476E-A8A9-6A42D84E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614D-CB32-4007-8BE0-9DC7CA35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C8B8-38E3-4819-A177-F33709C7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2A6D-B3EA-4169-BD40-A9BDA4D3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E037-A2F4-4AD7-9C3F-FEEDFD8B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355DA-C72C-4E74-ADE8-E210266D59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