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73698"/>
        <c:axId val="36317898"/>
      </c:barChart>
      <c:catAx>
        <c:axId val="63173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17898"/>
        <c:crosses val="autoZero"/>
        <c:auto val="1"/>
        <c:lblAlgn val="ctr"/>
        <c:lblOffset val="100"/>
        <c:noMultiLvlLbl val="0"/>
      </c:catAx>
      <c:valAx>
        <c:axId val="36317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73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9F4-724B-4340-98C6-7C95BE61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C5D-806C-4B77-8519-A9AA89B4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C6D-4AD6-466F-BA19-8123DD07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C1C-E03A-4C0C-B6CC-8A432E78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507-5DE6-41AB-9801-5E5A359A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B03-E60F-4BB8-9BA0-69CCC94F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565-8266-4E1E-AB55-139B749F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F35-76AE-403B-B120-F8E181BE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B69-ABA4-4A49-9E49-48987D8E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C69-4E97-4F6F-8E85-E172FD5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529-1BD3-426B-AA14-B2FCEBA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752-23C1-4119-9B2D-9E960BF2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3EC9D-453F-4700-B6BC-8AD9748B8D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