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F7933-B2C4-4EB2-85A4-A6F48A63D449}" type="datetime">
              <a:rPr b="0" i="1" lang="en-US" sz="1000" spc="-1" strike="noStrike">
                <a:solidFill>
                  <a:srgbClr val="000000"/>
                </a:solidFill>
                <a:latin typeface="Arial"/>
              </a:rPr>
              <a:t>07/30/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E09F5-7995-43F2-8352-2F63E6F3D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E62CE-6077-408C-9176-AC2AF3521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EAC8A-57F6-4FC6-832A-B3799ABD9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F3EE1-7D51-4F7D-817D-D5DDDD0C0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D1F6D-6DFB-44CC-ABA5-8A5C3DAE8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E7FED-E79F-4A3D-9360-A7B9CB51E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22867-5DB0-44AA-8D69-436556906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78BEC-48B9-4037-A6B7-7C4408E0A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67CC5-F449-4112-8EA1-80E0AA18D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768CC-0237-41C9-B011-D65D1B908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D4CAE-C0C6-42E4-95B7-80B26ABBE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4AF98-77E7-49E2-86A5-A5D9C68D1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8ABEE-E30C-4AA1-A44E-C702C2CB9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3965-8E14-4C19-8D76-DE2D34B6E3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1AF5-6BC5-4DAA-B58C-0BF32CE3B7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