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CC1E3FA-C8F9-4C7B-8FAD-94D4D1C2134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DE3DD73E-5987-4188-838F-9B5F2F347E5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AD5DF164-2004-473D-B8A8-B0101594839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4EFF1FBA-D475-415F-AB8A-4854136C4AA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67FAFA02-166F-4FB2-9EB4-70BF67F2B21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CD49D0-174A-4970-8379-D5EA10D1FA5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FA45C916-085F-49DF-B580-DF51B63D60C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D2423450-CAF6-4819-A21E-FA8AAC7C216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647A41DB-2848-47C9-97F2-4D0FF0CC739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C1B2A32-6525-477B-99AB-800D3478736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56A4890-B448-418A-8FD0-1C53FB63008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3A3239D-8C0A-4DC7-B495-15755A0FB99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65FC1C-BCCE-4AFC-ACB3-EB2B4C99F34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4568F19-88B4-4411-805D-BA6ED089A1A8}"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F6AE30D-9A9F-430A-8EE2-231B2323BA17}"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8FC11E2-08EA-4C24-987B-45ADFCC22374}"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66DE61A-6703-41CF-9DC1-60D45F80B58C}"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634444-227E-4D4C-96A3-8B80BA5FFF95}"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837C5D-9B5E-41DA-BA97-4C5CBCAC2937}"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B7D3FD2-42EF-4B7D-9332-050BB3034A6A}"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DF5A7F-1068-4FBE-90C5-A29054C64B1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1EDF8D-A7BE-4332-A10D-517361CA70A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7939CDD-8B4F-4A5C-A04F-D4F83E7654D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AFA102-F42C-4F09-839E-763BB751B7B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B2257E6-92FC-4772-B42C-EFEB4F0D71B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852C81C-24D2-47F9-9121-E6C69769C6D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E0003E4-91DA-49D7-8642-EBE5AB7799E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8FFE08-3850-40D1-94BE-2969A32C629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4F806E-B302-4F41-924B-F6B6711815E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2E43528-FBFB-40CD-9B48-A1445CE8443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83410B-B849-44A7-9B54-54714A56287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2F15DE-72C5-4D7A-90A5-4994750128D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393151-5714-40C5-BE9F-A019D014DCC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D85EFD-31BF-4031-8CB5-2A167C4CB76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7D0E5C-DA49-4C03-9852-7BE71520B88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6666974-036B-44C7-8349-EA1AEEB5633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564A3AB-AB6B-4067-BF9F-09894C69017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83CE27-9E43-4F76-9EE7-AD647F858FA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AA1D7A7-7E0C-41F7-820B-DA19ED7A65B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CDA183-5021-4BE1-B5C3-B9D27204960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A89A25-4A56-4253-B29D-8A7E83764AA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B09819F-B388-455D-824E-923B54A988E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F68761-21A8-421F-A81F-B06E7562398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D3F23DF-E1A5-4B77-A776-772849DD4BC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DF8CE5A-3C54-4E26-A1AE-6FEDC7F6C30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FD55406-E6F0-4456-B23D-AC4506E7CBE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F9364F-8901-434B-A987-41D40A30C42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3D8E828-204A-4A49-9D3E-3F80E3A0B44D}"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E2D8865-F18E-4538-A762-8AA8206FA67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3EDB36-5586-43C5-A701-C7AE1B6EDD0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6552688B-4400-4ECD-9A8A-B048E9831E88}"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8C92C5-5530-4A35-B8DC-176F6C16EA4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4465ED-C842-4222-8E7F-8B8A28D345B3}"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910BB4-E1AE-4B31-8DB1-E99A88BB15C8}"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A93584-B6C8-494F-9A61-5EA5BA8D1BB6}"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CE321F1-9773-4570-B9D8-294BF9CBF313}"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CC343A-5809-4C89-AE78-6CA06F08F905}"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52D189-157A-42A6-968D-FB1E9F985BFE}"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7DEF009-9CD0-4AB4-BCEF-64184140F5E1}"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40F754-9DC3-42C0-846D-66F1ABA8431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114EB64D-4953-4F0B-A1B8-800D4242A68F}"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0468E5-0FAB-42A1-88F8-158B2848663D}"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F69420B-FDD6-4AC3-8D3A-88393DF29A23}"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E1B25B-7566-429A-B2BF-DC7CCC6E017A}"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F03244-8E85-4A99-B0A4-B1E03CFCD11C}"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0540568-6D6F-4160-9161-F6CE19EF3795}"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C1AF8E-8200-453D-AB75-E2D3EDB6A63E}"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F55BFD-7307-42FB-B1AF-A37D5C41E4FB}"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4A78D4-1D8D-4B81-AE8A-5D3E45CCB68F}"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8E11FA-69F1-432C-92EE-C689C78DB1C4}"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4C0504-D9A6-4CE1-B58E-02C1A1DCD765}"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530A6585-8AAA-40A9-9DEE-9366C9E5153A}"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44AAFE5-5821-4F50-934D-7E5620D3C653}"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8B6103-243D-4403-ADBF-18F8BE03CC2F}"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B0342E8-BFAF-4DE4-B2F5-A85E9B361A38}"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C1D7936-E136-4348-812F-2E9D2F622822}"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A76FECB-67AD-49C2-ACFD-B17D2E21CC44}"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525FBC-7C90-4DE0-8593-8485D4D536AE}"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84CC58-F199-4837-8E3A-3CE53175C03B}"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158D853-0757-4A46-852A-C9BEA0974536}"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574B0C-3941-4836-9B74-DBDA535688E2}"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A533F1-48F1-4FD8-BE38-5587FB86FABD}"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F4F03D-1D7D-426A-AD9D-44D8BFE79506}"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B7DE410-8692-40E7-BCF4-FC0CA41498F2}"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FE52B0-8355-4F44-A685-57CA3ABF0F12}"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8A7438B-39BC-4739-8E0B-92CB9A850FE9}"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39EB82C-C60E-4CC9-9593-E26AF8DC15AB}"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308B108-45FC-4CC1-B19A-25839F13F780}"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0E756FA-97E3-4AFB-B920-24CBD74880B0}"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D96E01-BAC5-4A5F-B305-CECB2134F85F}"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38D8173-5EA0-4DC3-896B-05F102C716BD}"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D7359A-BE19-4EE4-80F0-771FB80682F8}"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2E396B9-8A4B-4486-950C-41D0201BBEF1}"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4B1725-C083-40EC-AA61-61BEE1151549}"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F08230-FBA5-45BE-AD1C-25966F725169}"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D36F58-9D00-43AB-A4EC-5EC70A04514D}"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1B8B66-E6ED-4B74-8145-7CEB7DBF85EA}"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4A21EE6-FA7C-4E06-ADF1-E7213B0D11D9}"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4652CB-0D2F-4076-8213-5D9E7B0BEE28}"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91F7BA-13B6-4DC7-B903-29721DD9BCE4}"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0314000-3164-4DB8-8503-BA9AD6920AC1}"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839343-1F00-4A53-9AD7-80843886FAEE}"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4A876AA-E7EA-4B17-B131-CBF6FD46B532}"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D7D4BB-34DB-4297-9D6D-C135D0A6F313}"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4A6BD9D-F4B3-4017-A47C-907A0DAD7C99}"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62CCE5-5DE9-4344-A3AC-B8F384D573CB}"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4115B8-957E-4010-BA34-7B9EFB1CBB26}"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EDA6576-E673-43B1-A37E-B564CA436C46}"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C68B36-4E0C-4FAE-9A87-43589F2794C4}"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D7B892-646C-4FFB-A43B-7309657E7DF2}"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E2412D-3175-4812-911F-0D99BB6878A6}"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1FA40AE-C9F4-4A9F-A8F5-3B072D3FC869}"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0058183-DFF7-4890-B3FD-590334685229}"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F89BBA5-47D2-4C18-A46F-F9EC4DD442E4}"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AA25C20-78EC-4357-94BE-9F79E905A61C}"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9E5C16-E9F8-430F-8728-D77033943329}"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6AE142-F52E-4FE3-8E00-023A0EB3E4E6}"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