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0780"/>
        <c:axId val="61474933"/>
      </c:barChart>
      <c:catAx>
        <c:axId val="8124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74933"/>
        <c:crosses val="autoZero"/>
        <c:auto val="1"/>
        <c:lblAlgn val="ctr"/>
        <c:lblOffset val="100"/>
        <c:noMultiLvlLbl val="0"/>
      </c:catAx>
      <c:valAx>
        <c:axId val="61474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54A-3658-4831-BB21-813A6D30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A77-712A-4FBA-BAE2-E8E42794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82A-3966-4D6D-9817-E13BC87E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1B7-F64B-41EB-A32B-1525CD90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069-5793-435D-B6C0-48D2A2EF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CC3-2E51-4E71-B2D4-0F1C86F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0E8-14A0-453B-B6D6-22CAC4D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BA2-905D-4871-A10F-8D943F3D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FD7-1205-4A1D-AE7B-EF12906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A1C-214C-4ACD-A8FD-2D26EF00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99C-17F0-4659-9ABD-500777B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CEB-8274-4C1C-BFD7-AF25D05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DBBDE-889C-4DEF-9143-CF0960AE7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