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064914"/>
        <c:axId val="84180070"/>
      </c:barChart>
      <c:catAx>
        <c:axId val="970649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80070"/>
        <c:crosses val="autoZero"/>
        <c:auto val="1"/>
        <c:lblAlgn val="ctr"/>
        <c:lblOffset val="100"/>
        <c:noMultiLvlLbl val="0"/>
      </c:catAx>
      <c:valAx>
        <c:axId val="841800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649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EB2A-90B8-47B5-BE27-18F755A9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E2D9-1E34-452C-9001-965FD695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55E8-9ECD-498C-9E66-F9276750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FE26-C29E-41DC-89A1-8CF8822C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5843-20A2-477E-BE35-FB15721E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48AF-723A-448B-9C5D-E4C2FD9D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9F21-28F7-4956-BE25-203B340F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1F09-F8EF-48D5-8778-15C62A32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3C29-2131-447D-A7B2-44999C60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81AD-7EC8-4959-8832-5F2EDE9D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F2BC-550C-4AE6-BADC-8AD8E2D5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B0E8-EBCA-4E41-8E66-87064ED3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70B5C-58E5-4A76-B0C6-E97E7D7B3F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