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8818"/>
        <c:axId val="23297320"/>
      </c:barChart>
      <c:catAx>
        <c:axId val="2998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97320"/>
        <c:crosses val="autoZero"/>
        <c:auto val="1"/>
        <c:lblAlgn val="ctr"/>
        <c:lblOffset val="100"/>
        <c:noMultiLvlLbl val="0"/>
      </c:catAx>
      <c:valAx>
        <c:axId val="23297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8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17B-5713-4DE7-9B20-A988A763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B1B-1D7B-4C86-8718-9F4B63E8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819-EEA0-4A30-B665-AD4A4620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3AD-3532-4846-B5D5-7B12F618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4C3-EBDE-45F6-A51B-67E650F5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53F-4CA1-4EAB-9D84-18AB22E0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634-FB4E-4767-A7B3-F6E984E8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94C-DF36-42EE-A91A-5C2A9C8C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2C5-227E-4EFF-B382-A0331ACE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1D1-B405-488C-AB2E-4A6A9364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F96-250D-4FF2-812D-48A639F7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E54-F7C2-4589-B50E-CB9CF3F1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C61EE-B7C1-4BB4-8F0B-67DA2927C4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