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15659"/>
        <c:axId val="92971522"/>
      </c:barChart>
      <c:catAx>
        <c:axId val="55315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71522"/>
        <c:crosses val="autoZero"/>
        <c:auto val="1"/>
        <c:lblAlgn val="ctr"/>
        <c:lblOffset val="100"/>
        <c:noMultiLvlLbl val="0"/>
      </c:catAx>
      <c:valAx>
        <c:axId val="92971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15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9E1-20EE-4B88-941F-768AF520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9B8-5015-4D82-B9D6-58BF5882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E6F-7B0C-4295-8AC5-FDABCFB5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894-FF1C-4169-BB03-3F836015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F40-2DBD-43B4-88D0-D6C495E0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112-4210-4DE2-BB33-7DB3D2C7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DB6-EDD3-4374-B69E-728DD9FB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01B-F179-4486-A1E4-A531D3CE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C94-1BE8-4326-AF65-822CD0F8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B9E-A44F-415A-B2F3-5EA95558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98C-89FD-4BDF-B03F-4B1D93F2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E28-6B62-4401-987A-07D5E95C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EC5AC-4BC4-4988-B4CD-7FC05E0F70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