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441861"/>
        <c:axId val="5585355"/>
      </c:barChart>
      <c:catAx>
        <c:axId val="104418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85355"/>
        <c:crosses val="autoZero"/>
        <c:auto val="1"/>
        <c:lblAlgn val="ctr"/>
        <c:lblOffset val="100"/>
        <c:noMultiLvlLbl val="0"/>
      </c:catAx>
      <c:valAx>
        <c:axId val="55853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4418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D5FA-020D-4A1C-9736-811BBC1AE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0900-4439-425A-9094-0F7B48ADC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47BE-DCC9-426E-8493-3A8EA901C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F647-0464-48AC-869B-AC367514F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951D-697F-430A-AC4C-9D3865B43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B7FE-770B-4873-845D-9BE56ADE2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17CF-F9F8-4733-A11D-7415E6137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CBFB-D834-4472-AB99-BE298E02B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08C6-580D-43FB-A410-9F290D79F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147E-831F-4639-82F3-6A64E6C5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5EDC-C8CE-4439-8AE5-EB98BB09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D39E-7901-4FFE-8E5D-1A797DD9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587A31-C8AB-47D5-8A47-81AD122F089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