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6344193"/>
        <c:axId val="63416586"/>
      </c:barChart>
      <c:catAx>
        <c:axId val="3634419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416586"/>
        <c:crosses val="autoZero"/>
        <c:auto val="1"/>
        <c:lblAlgn val="ctr"/>
        <c:lblOffset val="100"/>
        <c:noMultiLvlLbl val="0"/>
      </c:catAx>
      <c:valAx>
        <c:axId val="6341658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34419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3A4C-3020-46BC-89C0-1B8A29FBA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A54F-D14D-457D-ABA0-BD1B4CA8D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4C4F-5E66-4F37-B480-BBF270BB6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E95E-D350-42F0-84FA-981F55ED5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ADFA-B791-4993-A424-E1058B880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83EC-B056-4F2A-A637-769FFDA93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5FAE-C19D-4BB8-837B-56B4139AB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0F84-9387-4B1A-A59F-9047BE9EB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F9BA-640E-4DD2-9436-CDE866C35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4AEE-87B9-46E1-8BA0-6820C0837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0F45-C0C4-4BD8-8071-D5E7E5C79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D010-E0E2-436C-B7F9-2A5B4F17C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3E2B24-3FE5-4C63-BCD7-55C16E08164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