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4215"/>
        <c:axId val="25177736"/>
      </c:barChart>
      <c:catAx>
        <c:axId val="1774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77736"/>
        <c:crosses val="autoZero"/>
        <c:auto val="1"/>
        <c:lblAlgn val="ctr"/>
        <c:lblOffset val="100"/>
        <c:noMultiLvlLbl val="0"/>
      </c:catAx>
      <c:valAx>
        <c:axId val="251777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4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3207-4D4E-425F-9EEF-64240D78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9490-8E5E-4B4C-8A05-09F18BC1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DA9-ED8E-4B92-97B3-253C2637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AED1-5B10-45B3-8078-B6E81962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C96-532D-4C2C-9242-313495DD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89E-95F1-45D9-9785-9F4B8DA2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B14-2884-4D37-A4E1-5C26C5DE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B0A-BDBA-49D0-B6D7-F58AE0F6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7D8-902E-401F-B076-B2F7BCC5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247-9270-480C-8FF3-C5E11F61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DF1-72B8-4A6F-8C7A-6A474F60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1547-6FA1-4456-B8FC-F45400A2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31F32-5FA9-4700-BCC5-276B9B54A6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