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21266"/>
        <c:axId val="61505466"/>
      </c:barChart>
      <c:catAx>
        <c:axId val="61421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05466"/>
        <c:crosses val="autoZero"/>
        <c:auto val="1"/>
        <c:lblAlgn val="ctr"/>
        <c:lblOffset val="100"/>
        <c:noMultiLvlLbl val="0"/>
      </c:catAx>
      <c:valAx>
        <c:axId val="61505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21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B7BA-8612-4239-A582-CA26A3B5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BC5-1CDC-4445-B6C7-EAD607F7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08F-2CB1-44DB-A3A2-D19BE6D9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3C1-187B-44E0-B453-B4C3A405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8FE-93C9-4FEB-B781-CC8B99C2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D52-4E64-4B9A-A8C6-67EB67ED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13A-38C8-4DF5-88D3-557B6A22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6E2-416A-4417-9378-49D3B579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8B1-6EAD-4F4C-A9AE-CDA2050D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CFB-EEAD-4303-BF8A-916183E2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BE67-66A8-42CD-A9A8-4FF14C98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C303-1417-4FD2-BF02-161FE20B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2380C-5063-4381-8222-C2BB80A364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