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96796"/>
        <c:axId val="9221754"/>
      </c:barChart>
      <c:catAx>
        <c:axId val="88796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1754"/>
        <c:crosses val="autoZero"/>
        <c:auto val="1"/>
        <c:lblAlgn val="ctr"/>
        <c:lblOffset val="100"/>
        <c:noMultiLvlLbl val="0"/>
      </c:catAx>
      <c:valAx>
        <c:axId val="9221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96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93C-B408-4125-B140-C869E23C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C561-70FE-4905-876C-45BAC096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829-E211-4244-B23E-4F076302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B8F-3081-4B91-9FBF-42DA7450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480-4929-4D66-8042-90CD647B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8EE4-109B-4C06-A40A-47C848DC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B30-F270-41CB-AA09-4C2B5E5F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685-7B7B-4A96-B17F-95D7C7F6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298-2550-4742-AA3F-0CD435FC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A2B-543B-4853-96D0-324DDB7A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084-09C9-4E67-BB8F-18A622C4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5CA-3C02-4668-850E-D76B6154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15061-EAE0-410E-BE18-63643437A2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