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80086"/>
        <c:axId val="54797213"/>
      </c:barChart>
      <c:catAx>
        <c:axId val="56280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7213"/>
        <c:crosses val="autoZero"/>
        <c:auto val="1"/>
        <c:lblAlgn val="ctr"/>
        <c:lblOffset val="100"/>
        <c:noMultiLvlLbl val="0"/>
      </c:catAx>
      <c:valAx>
        <c:axId val="54797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0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87D-E691-4708-8525-1A3E9A55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1E8-B0D2-469F-9899-7506F676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85F-9128-497F-810C-6BB8CD9C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3A7-0F24-4FB8-8C00-82303716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BA0-6AEA-4C6A-979A-142B4C71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543-73A1-44AB-B833-87E733C5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595-5048-42CA-A582-E0DCB8DA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3E5-76B8-4BD3-8145-55B87EC0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08F-2E60-43B3-A616-694EDD0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FC1-919F-4C8D-B322-FB0F43E8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3F6-6C98-4B82-91DA-3BC1779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44D-135E-40BF-9219-DC1BD69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A3C62-0868-4528-A76C-859A6FE0A8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