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618322"/>
        <c:axId val="20611146"/>
      </c:barChart>
      <c:catAx>
        <c:axId val="366183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11146"/>
        <c:crosses val="autoZero"/>
        <c:auto val="1"/>
        <c:lblAlgn val="ctr"/>
        <c:lblOffset val="100"/>
        <c:noMultiLvlLbl val="0"/>
      </c:catAx>
      <c:valAx>
        <c:axId val="206111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183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C74C-6BC8-467D-B472-0A23ACE7E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696B-DE40-40DA-AA45-5B91531F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18BA-2C7C-49E1-B995-17158B56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A8EB-BE81-4B00-A2C6-0C344DF6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01DD-D2F7-480A-979D-B04041C6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8228-34BA-4459-AA32-969BF3A3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8E99-1CEF-4868-8E3D-D7F8AF78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AB0E-9ADE-4A80-868D-6444EEBA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37EE-EBA5-4548-B150-F6B028FD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5B79-0D81-4F6F-A313-399D53BC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A13E-6D45-4D25-8778-B564BFE9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4047-E9EC-4EC7-BDDA-1E871D13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15602-5728-469A-B61D-BDF6871BAD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