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242335"/>
        <c:axId val="10246016"/>
      </c:barChart>
      <c:catAx>
        <c:axId val="482423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46016"/>
        <c:crosses val="autoZero"/>
        <c:auto val="1"/>
        <c:lblAlgn val="ctr"/>
        <c:lblOffset val="100"/>
        <c:noMultiLvlLbl val="0"/>
      </c:catAx>
      <c:valAx>
        <c:axId val="102460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423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A473-A08F-48AA-91E9-BA573E918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02C7-00D4-4449-9FD7-AE2A6D7E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B6EB-7655-4898-A3D7-5BB3B8B0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0DA3-40C9-4C7C-82CB-DC8C31210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641D-4425-4099-8B88-076F6104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ADCC-0CE8-4FB4-96F9-6DE2B746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1B48-0C5B-41FB-BBCB-8FD642AF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5CCD-8CDF-4528-BAE5-4558A13F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840A-7F1E-49B2-9A52-F1A3AB10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EEF9-58EB-4C24-85A9-C17A4458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BFFC-31E6-422C-939E-3E11BB7D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3B6C-ECD6-4EB6-9311-2EDAC015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67BD7-7C1D-4A73-8A50-98B0E47AAB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